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42A-3531-4687-928D-F1191A86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DF6-A837-495E-9AA9-31BEF144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C64-36A0-4C4D-9228-AE60B61D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B23-A47B-4077-AB1C-F5B81FAF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9AB2-DDAB-45C6-B954-19A33D9B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2318-EFFB-4D6A-B0A9-05145AA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BA4-DC06-4C33-94CB-331A1105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1E1-9D63-4F5B-B5B7-E700A80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B7DF-83FB-4214-96F5-54F06BA0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AC2C-3F23-4921-A989-047777DA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D4D-0F3E-4FCF-BBCC-DE4ADBB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FD0-88D7-4AD6-B293-8FCADB4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8CDF-4C70-4DCB-9B2D-A06BB47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112-D1A4-46CC-ADFA-482F19A3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454B-9819-42C7-93C4-DC772FA2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0915-C847-4BE3-B997-56D87666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764-6A55-4B4C-A6CB-FF0C39AD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DE3-EA09-4FD6-AD46-2100C5E6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F2C-6BA7-4B1A-9063-E3D5B4BE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F0A-165E-49F6-93CB-FAA0CD27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A8E-E213-4AC7-A384-A506689C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00C-E855-4682-9C1C-B6F773D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D8B-A7C8-4B5E-ADAA-4FDC67B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123-9B70-4144-A689-212FB067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227C-D118-42B3-8A9D-6F54BDDC026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3C4F-B7E7-4C59-ACB7-AE9CDFC5BEF9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19000" y="5838840"/>
            <a:ext cx="3062160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33200" y="7561440"/>
            <a:ext cx="321883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531280" y="1257480"/>
            <a:ext cx="22864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655640" y="1487520"/>
            <a:ext cx="7601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30:16Z</dcterms:modified>
  <cp:revision>188</cp:revision>
  <dc:subject/>
  <dc:title>Slide sem título</dc:title>
</cp:coreProperties>
</file>