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116-F61A-4195-AAE9-804EA84E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CED-E948-4A05-8371-E35F3FB3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677-CB88-43E8-8769-E9B16E38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016-5096-4074-8D00-C2CAFFF1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F5A2-AB47-45A7-9DBF-5667C736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AFF3-9AA1-4809-AC20-9D49D3F6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F09D-DFAB-45DA-B49E-1EE4FE20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8327-A88F-466A-8FA7-A4DDE38A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ADA2-AA8B-4F31-88C1-F11E5DB3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A001-5809-4E7A-894D-91F76639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6459-7B21-4216-8F4B-9E748379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ADB-1878-4EAF-B17A-9ABBAA17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1684-C799-4BD5-A399-6E38C8DD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28D3-2628-4EAD-9359-434E3507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98BA-C19D-4DF8-9A2F-55533BF0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463B-A873-4772-A2BB-5293E390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913D-ADAD-43BD-B6E2-7CA73D66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41F-BD0C-4985-BFC7-85AF0B4E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4E0-8995-4648-92E7-4710F25D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46F-EB75-4A44-87B9-0F7CCB7C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4A6-FC66-4364-BD80-66834BD6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73B-5A7F-4E93-9826-2248681B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48F-A8A4-4E09-A026-34F396D2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819-822C-4A77-B0BF-8D905C65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BF1E-3FD2-46E9-8E96-B3400A0E63B4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7AC6-6031-4095-BD62-38A0DE0DDC5A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630360" y="6103800"/>
            <a:ext cx="30619440" cy="12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6560" y="7848720"/>
            <a:ext cx="3199464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738920" y="1152360"/>
            <a:ext cx="23512680" cy="366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rcRect l="11655" t="4981" r="12175" b="31887"/>
          <a:stretch/>
        </p:blipFill>
        <p:spPr>
          <a:xfrm>
            <a:off x="6291360" y="13274640"/>
            <a:ext cx="19297440" cy="17951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6:31Z</dcterms:modified>
  <cp:revision>190</cp:revision>
  <dc:subject/>
  <dc:title>Slide sem título</dc:title>
</cp:coreProperties>
</file>