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A01-441F-42C4-867F-6FC55963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719-5678-4E86-9EC6-EF8593D8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485-7734-4100-B656-ACFFEB9B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992-3A51-4E53-9990-C7480305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712A-2D9E-4B74-B789-99CFB265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501-5B9C-48CD-B143-9E8EB2D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E9CA-04C2-4C2D-9C15-555BFDC2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DA6A-3388-4958-B3FF-0F5D685F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22FB-8A97-4483-B258-CD19B8F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D028-B3ED-4118-B348-F4D2B11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3BC-3267-4953-9BA1-EBDD84A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142-2BF5-4B53-9C66-BE1FF5A9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069B-C9CF-4E5A-934E-31730D8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558E-6E88-42C3-8019-0F0F2ED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03D6-3B26-4775-88D9-8449DC18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20D-4D10-4A47-AA24-4D6B06E4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6DDF-DFAB-4CBA-8717-C36523A3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BEC-91FA-435C-B73A-9CCF856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F28-C564-488B-8EAB-8516ED50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173-04D6-4733-A48E-628A91E3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D6A-5171-45CB-8180-86632353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576-C370-4BD3-8C3F-A5979F3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2B6-B6C5-41BD-8E94-BDB183D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917-FF11-4329-85F4-1324189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ABEA-DDE4-4C64-B8D0-667958362BCE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F7B-A757-4EA3-95B6-23D58EF84CD2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4560" y="6369120"/>
            <a:ext cx="3240396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27200" y="8097840"/>
            <a:ext cx="33715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191919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                              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Orientador: Prof. ou Profa. XXXXX Se for Doutor, Prof. Dr. ou Profa. Dra.</a:t>
            </a:r>
            <a:endParaRPr b="0" lang="en-US" sz="5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500" spc="-1" strike="noStrike">
                <a:solidFill>
                  <a:srgbClr val="191919"/>
                </a:solidFill>
                <a:latin typeface="Arial"/>
                <a:ea typeface="Arial"/>
              </a:rPr>
              <a:t>Superior Tecnológico - Informação e Comunicação  - Gestão da Tecnologia da Informação</a:t>
            </a:r>
            <a:r>
              <a:rPr b="0" lang="pt-BR" sz="5500" spc="-1" strike="noStrike">
                <a:solidFill>
                  <a:srgbClr val="191919"/>
                </a:solidFill>
                <a:latin typeface="Times New Roman"/>
              </a:rPr>
              <a:t> </a:t>
            </a:r>
            <a:r>
              <a:rPr b="0" lang="pt-BR" sz="5500" spc="-1" strike="noStrike">
                <a:solidFill>
                  <a:srgbClr val="191919"/>
                </a:solidFill>
                <a:latin typeface="Arial"/>
              </a:rPr>
              <a:t> - Indianópolis (trata-se de um exemplo: cada aluno deve preencher com seus dados de curso e </a:t>
            </a:r>
            <a:r>
              <a:rPr b="0" i="1" lang="pt-BR" sz="5500" spc="-1" strike="noStrike">
                <a:solidFill>
                  <a:srgbClr val="191919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191919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288280" y="1427040"/>
            <a:ext cx="2468556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191919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5:45Z</dcterms:modified>
  <cp:revision>187</cp:revision>
  <dc:subject/>
  <dc:title>Slide sem título </dc:title>
</cp:coreProperties>
</file>