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5A2-CD46-46AE-8FBF-C940B94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D58-21B6-4E51-935B-8D0DA126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49C-9AD4-4787-A3D8-7996AC0D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C8A-401A-4696-B88E-6DE1C1D7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582F-2E00-4E00-B9ED-3811ED9D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7C2D-6C4A-4FAF-B662-44C04E8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BCFA-E778-4D69-ABC6-6FBC19FF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5DE5-12B4-42BD-BF04-F232E33A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C63-A92A-42C2-9B4A-ED0A410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9F0-E7C8-477C-A302-CEAD7419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E918-CF6B-46F7-8390-D063AAD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6DB-5BAA-4CB3-8F7B-ED6F444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317D-9E65-4D17-8940-BFCF353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AFD-F456-4E53-A3CA-AFC278F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63BF-A013-4023-A106-58B2CF2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EFF-44C5-4AC5-83F0-998EDA35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F3AE-1B50-49D8-A762-53F02CD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0D1-4A5F-4A42-B215-A99D2DE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1B1-8437-4120-980B-D2AB1EF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7AE-94BE-4D22-BFAD-E47D22E6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A63-70FD-41FF-B827-0B606D2C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550-44A5-4E06-B147-5F84E19A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F68-525A-4821-B769-418BE5F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80E-EC64-4866-ADED-D4FE84C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6C56-8FFB-4BC1-9E0B-22084311897F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A53-D3A9-4A41-8769-E25513B83FC0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36912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82600" y="8097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333333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012160" y="1112760"/>
            <a:ext cx="2497464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7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333333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333333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10Z</dcterms:modified>
  <cp:revision>183</cp:revision>
  <dc:subject/>
  <dc:title>Slide sem título </dc:title>
</cp:coreProperties>
</file>