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4290000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FD6-FD14-4196-9DCA-59B21528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EF6-CAB8-4D54-8C03-15D080E5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AAD-1438-475F-8DAB-BE48F459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B0E-F75E-4585-90EF-CF8D81F4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F673-1104-417E-8BFD-AC7B842C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23D9-9235-411B-804F-1906051C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56C8-513E-47B7-B773-993E26EE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B6D7-36F8-4747-8C36-0A27EC0C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9689-D80D-4F42-82F9-C5FAE61F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864D-0388-4BC8-961B-6BDF4FF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E791-4624-4040-8317-6CCE2A6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974"/>
              </a:spcBef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E77-C519-4562-83CD-7F256195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FA3D-5F7B-4C18-B98C-6BC803FD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53D2-FC77-43B2-8DAB-87B3A4C8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B664-7274-4D2C-A7AF-70F46B24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2462-5467-4928-8447-D8D0B813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2362-EEF8-4DBE-AE4A-12061013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BBB-E2EF-47C9-A74C-F6A98A61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822-3B5F-4F28-8CCA-65048667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07D-FDC5-43C8-93A8-84E79BC3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048120"/>
            <a:ext cx="29146320" cy="353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974"/>
              </a:spcBef>
              <a:tabLst>
                <a:tab algn="l" pos="0"/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BDF-CEDF-4B86-9D9C-5E651D9E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E70-0047-4E19-A71E-DB8D9EE3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F0A-C74B-4763-9C14-B1CA86E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3974"/>
              </a:spcBef>
              <a:buNone/>
              <a:tabLst>
                <a:tab algn="l" pos="4568760"/>
                <a:tab algn="l" pos="9137520"/>
              </a:tabLst>
            </a:pP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C16-E8DC-48CF-93AF-66F739FF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00E9-DCB6-4299-9BB1-D7F8446335E4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590920" y="22269600"/>
            <a:ext cx="28698840" cy="3238200"/>
          </a:xfrm>
          <a:custGeom>
            <a:avLst/>
            <a:gdLst>
              <a:gd name="textAreaLeft" fmla="*/ 0 w 28698840"/>
              <a:gd name="textAreaRight" fmla="*/ 28699200 w 28698840"/>
              <a:gd name="textAreaTop" fmla="*/ 0 h 3238200"/>
              <a:gd name="textAreaBottom" fmla="*/ 3238560 h 323820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71840" y="3048120"/>
            <a:ext cx="29146320" cy="761976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b">
            <a:noAutofit/>
          </a:bodyPr>
          <a:p>
            <a:pPr indent="0">
              <a:buNone/>
              <a:tabLst>
                <a:tab algn="l" pos="0"/>
                <a:tab algn="l" pos="4568760"/>
                <a:tab algn="l" pos="9137520"/>
              </a:tabLst>
            </a:pPr>
            <a:r>
              <a:rPr b="0" lang="en-US" sz="220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2880" indent="-1712880">
              <a:spcBef>
                <a:spcPts val="39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1" marL="3714840" indent="-1428840">
              <a:spcBef>
                <a:spcPts val="39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2" marL="5715000" indent="-1146240">
              <a:spcBef>
                <a:spcPts val="3974"/>
              </a:spcBef>
              <a:buClr>
                <a:srgbClr val="333333"/>
              </a:buClr>
              <a:buFont typeface="Times New Roman"/>
              <a:buChar char="•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3" marL="8001000" indent="-1144440">
              <a:spcBef>
                <a:spcPts val="3974"/>
              </a:spcBef>
              <a:buClr>
                <a:srgbClr val="333333"/>
              </a:buClr>
              <a:buFont typeface="Times New Roman"/>
              <a:buChar char="–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4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5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  <a:p>
            <a:pPr lvl="6" marL="10283760" indent="-1141200">
              <a:spcBef>
                <a:spcPts val="3974"/>
              </a:spcBef>
              <a:buClr>
                <a:srgbClr val="333333"/>
              </a:buClr>
              <a:buFont typeface="Times New Roman"/>
              <a:buChar char="»"/>
              <a:tabLst>
                <a:tab algn="l" pos="4568760"/>
                <a:tab algn="l" pos="9137520"/>
              </a:tabLst>
            </a:pPr>
            <a:r>
              <a:rPr b="0" lang="en-US" sz="159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5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6891-98B6-46D4-856C-F7C0D3D63E02}" type="slidenum">
              <a:rPr b="0" lang="en-US" sz="70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795240" y="6283440"/>
            <a:ext cx="32404320" cy="13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7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Título da pesquisa  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28600" y="8458200"/>
            <a:ext cx="340614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49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Autor: </a:t>
            </a:r>
            <a:r>
              <a:rPr b="1" lang="pt-BR" sz="5700" spc="-1" strike="noStrike">
                <a:solidFill>
                  <a:srgbClr val="000066"/>
                </a:solidFill>
                <a:latin typeface="Arial"/>
              </a:rPr>
              <a:t>XXXXXXXX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Orientador: Prof. ou Profa. XXXXX Se for Doutor, Prof. Dr. ou Profa. Dra.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Ciências da Saúde - Odontologia - Indianópolis (trata-se de um exemplo: cada aluno deve preencher com seus dados de curso e </a:t>
            </a:r>
            <a:r>
              <a:rPr b="0" i="1" lang="pt-BR" sz="5700" spc="-1" strike="noStrike">
                <a:solidFill>
                  <a:srgbClr val="000066"/>
                </a:solidFill>
                <a:latin typeface="Arial"/>
              </a:rPr>
              <a:t>campus</a:t>
            </a:r>
            <a:r>
              <a:rPr b="0" lang="pt-BR" sz="57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9020160" y="1257480"/>
            <a:ext cx="24037920" cy="367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9840" rIns="159840" tIns="79920" bIns="799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7000" spc="-1" strike="noStrike">
                <a:solidFill>
                  <a:srgbClr val="000066"/>
                </a:solidFill>
                <a:latin typeface="Arial"/>
              </a:rPr>
              <a:t>UNIP - Vice-Reitoria de Pós-Graduação e Pesquisa</a:t>
            </a:r>
            <a:r>
              <a:rPr b="1" lang="pt-BR" sz="6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95280" y="41849640"/>
            <a:ext cx="1184760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57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pt-BR" sz="4700" spc="-1" strike="noStrike">
                <a:solidFill>
                  <a:srgbClr val="000066"/>
                </a:solidFill>
                <a:latin typeface="Arial"/>
              </a:rPr>
              <a:t>Palavras-chave</a:t>
            </a:r>
            <a:r>
              <a:rPr b="0" lang="pt-BR" sz="4700" spc="-1" strike="noStrike">
                <a:solidFill>
                  <a:srgbClr val="000066"/>
                </a:solidFill>
                <a:latin typeface="Arial"/>
              </a:rPr>
              <a:t>: (de 3 a 5)</a:t>
            </a:r>
            <a:endParaRPr b="0" lang="en-US" sz="47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59080" y="1762200"/>
            <a:ext cx="759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7:07Z</dcterms:modified>
  <cp:revision>179</cp:revision>
  <dc:subject/>
  <dc:title>Slide sem título </dc:title>
</cp:coreProperties>
</file>