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4290000" cy="4572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7B14-20C5-4801-B2DF-713DAD3A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8BAF-9EF5-4C66-B569-D5FB49E2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BFE4-62F0-4B26-9BAC-4ADC1AD6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A2C5-B277-4536-BFC2-E728653C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B2E3-B08D-41B3-A889-A98A0B4A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0B03-1A4F-4327-BB63-3E7B45F0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96EC-48F0-40E9-A757-0CEAAF99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4021-97DB-42B0-8646-9FD71553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6FFA-1843-487A-BA8C-2BE559BD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F199-ABAF-459B-85AC-EC7D1C10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D354-F203-4B6B-94B6-9E604506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BCD3-AA96-4C09-85CC-BF0DE4A0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C4E7-99BF-4AA2-AC8B-EF09C20C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1D7A-2BF1-4312-996B-B95AEEA0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D02A-110C-4650-BFFB-15AC66F6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B548-BB51-41D2-9994-39F85E07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8322-23B1-4705-B1FC-27C4E2DC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F15A-8F79-49D8-87B6-24A84196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C2AB-DEAC-49E1-9A6D-39E0597D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65D5-A465-4C51-B9E9-9D357DA5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6E79-ACD2-4910-8C10-179844B3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B859-0376-4FE7-9ED5-3B39D767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1880-2CB0-4215-B5F5-30457327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C071-6612-484A-A06F-BF874B02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6A7E-CD6F-4413-8151-E903295A71FD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590920" y="22269600"/>
            <a:ext cx="28698840" cy="3238200"/>
          </a:xfrm>
          <a:custGeom>
            <a:avLst/>
            <a:gdLst>
              <a:gd name="textAreaLeft" fmla="*/ 0 w 28698840"/>
              <a:gd name="textAreaRight" fmla="*/ 28699200 w 28698840"/>
              <a:gd name="textAreaTop" fmla="*/ 0 h 3238200"/>
              <a:gd name="textAreaBottom" fmla="*/ 3238560 h 323820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5031-CF8F-4830-87EC-AC9FE8DC9DEA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531720" y="6272280"/>
            <a:ext cx="32404320" cy="133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700" spc="-1" strike="noStrike">
                <a:solidFill>
                  <a:srgbClr val="000066"/>
                </a:solidFill>
                <a:latin typeface="Arial"/>
              </a:rPr>
              <a:t>                         </a:t>
            </a:r>
            <a:r>
              <a:rPr b="1" lang="pt-BR" sz="70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162000" y="8458200"/>
            <a:ext cx="34061400" cy="36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4900" spc="-1" strike="noStrike">
                <a:solidFill>
                  <a:srgbClr val="333333"/>
                </a:solidFill>
                <a:latin typeface="Arial"/>
              </a:rPr>
              <a:t>                         </a:t>
            </a: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Autor: </a:t>
            </a:r>
            <a:r>
              <a:rPr b="1" lang="pt-BR" sz="57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Orientador: Prof. ou Profa. XXXXX Se for Doutor, Prof. Dr. ou Profa. Dra.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Ciências Sociais e Comunicação - Administração - Indianópolis (trata-se de um exemplo: cada aluno deve preencher com seus dados de curso e </a:t>
            </a:r>
            <a:r>
              <a:rPr b="0" i="1" lang="pt-BR" sz="57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8913960" y="1257480"/>
            <a:ext cx="24144120" cy="367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2a2a2a"/>
                </a:solidFill>
                <a:latin typeface="Arial"/>
              </a:rPr>
              <a:t>Apoios: SANTANDER - Programa Santander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2a2a2a"/>
                </a:solidFill>
                <a:latin typeface="Arial"/>
              </a:rPr>
              <a:t>Universidades de Bolsas Graduação e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2a2a2a"/>
                </a:solidFill>
                <a:latin typeface="Arial"/>
              </a:rPr>
              <a:t>UNIP - Vice-Reitoria de Pós-Graduação e Pesquisa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95280" y="41849640"/>
            <a:ext cx="1184760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57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47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7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7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459080" y="1450800"/>
            <a:ext cx="7599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27:37Z</dcterms:modified>
  <cp:revision>182</cp:revision>
  <dc:subject/>
  <dc:title>Slide sem título </dc:title>
</cp:coreProperties>
</file>