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991-CF8C-4606-95E1-1AAC3659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D67-6886-4261-AAC7-EE4E9770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79B-7DD8-4CB0-BB2B-E4A149BD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02D-E9EC-48B6-976C-F8B06F41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00CA-99A8-49A9-B558-961EB474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AA10-32EA-40D6-AE77-194C3AA7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55F2-6E94-4415-9D64-44A3CBB1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FF32-7A9A-4CD1-8871-8F2179F4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4646-6AA4-4D73-8749-5622E988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F3E7-AD06-4076-B8D5-A4FFC3E0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A335-755A-4258-BE8B-3B2A112F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6A1-B5D5-496A-9596-418E9748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CDD9-CCAE-499A-93F3-7FA38416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4C38-D178-4727-9CF0-0BD65900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6081-83E2-4A6E-AD43-9724855A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F227-58BF-49F6-B674-A3C5A73D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BF61-2ACC-4541-954E-5EC0355B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0BE-9A75-43FB-A56C-056A604B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D7E-5BA2-412E-860F-310AFF6D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2BE-D17C-4425-9FEA-4701752E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280-E794-4621-B5B4-0877AC0C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119-4271-4F46-A760-DA5C0DB3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664-ECF9-45F7-9549-35C709FA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D94-8B8E-4AFD-B6AA-2194C567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E317-4371-4BBD-9481-68FCB04766E8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D5E0-205B-4698-9446-5AFFE750C0BE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795240" y="6105600"/>
            <a:ext cx="3240432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254160" y="8313840"/>
            <a:ext cx="3406140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Orientador: Prof. ou Profa. XXXXX Se for Doutor, Prof. Dr. ou Profa. Dra.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Ciências Sociais e Comunicação - Direito - Indianópolis (trata-se de um exemplo:cada aluno deve preencher com seus dados de curso e </a:t>
            </a:r>
            <a:r>
              <a:rPr b="0" i="1" lang="pt-BR" sz="57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659800" y="1450800"/>
            <a:ext cx="24614280" cy="367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P - Vice-Reitoria de Pós-Graduação e Pesquisa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762200"/>
            <a:ext cx="759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8:02Z</dcterms:modified>
  <cp:revision>181</cp:revision>
  <dc:subject/>
  <dc:title>Slide sem título </dc:title>
</cp:coreProperties>
</file>