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57E-E330-4A35-8729-26936DFD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6D1-B49A-4D6F-A742-82909A16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ED2-AA74-48DD-937F-B914CE2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B33-B968-45C5-809B-7E753ED5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B986-5AA5-42AE-AF9D-7971E1F7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C558-C4CE-496A-81F7-38A59432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7B3-DC9F-438E-AC71-4A812B91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7F86-34C9-4E76-80B1-942F03A8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F09A-7DFD-4F00-93FF-9DED3B88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C24-7AC2-4C10-8668-9195E83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F812-6601-4C09-942D-860D41B8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C1B-926E-476C-8F6A-C4FA170E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372B-E5A3-4092-B21D-B7726E9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5CA-FAF4-4B60-A347-65F9A16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646-FB85-46B3-97FA-48C4781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7F19-B669-4FD5-AAAB-AB42CE9C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31CB-3F34-4C9A-B872-ACE24720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263-C1DE-40B5-8E7D-F801A49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583-8816-4928-A390-A61FCAE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52B-9F59-4FBA-A108-D75BFA12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D04-07C7-4A88-BD46-7FA8E34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597-B8A2-430E-AADA-7C57912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D0A-18D1-4322-AECF-3CF4135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3B2-6F25-4CD4-AF79-C4805AC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1A3-A9D5-4C22-A4CD-63BD07846313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F385-79A4-47E5-96CB-97A25FB04A23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07348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- Biomedicina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até 03-três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9" name="Imagem 8" descr=""/>
          <p:cNvPicPr/>
          <p:nvPr/>
        </p:nvPicPr>
        <p:blipFill>
          <a:blip r:embed="rId2"/>
          <a:stretch/>
        </p:blipFill>
        <p:spPr>
          <a:xfrm>
            <a:off x="2089080" y="1658880"/>
            <a:ext cx="684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1-11-17T14:46:07Z</dcterms:modified>
  <cp:revision>188</cp:revision>
  <dc:subject/>
  <dc:title>Slide sem título</dc:title>
</cp:coreProperties>
</file>