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9519-B081-43B1-8A63-A6010629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432-9FAB-4A02-801E-085A1CD2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986-0447-43FA-8043-E6F3C77F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4AD-7D34-4AAD-A3E4-1CDF6C50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0C6C-91BE-4D7B-96CF-0A4356E2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4A53-8E00-4A7C-BC27-1F32D590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5457-9F57-44B0-9239-E0BCCB62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51F2-C0D3-4C16-9BE6-5B666277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563B-5D47-4C15-BE3C-DE4266B7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8F73-3256-48C5-A4CD-9BE5C258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ED61-A1CF-4F2A-A514-3E7D3CF7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CD7-CB0E-4ADF-AC95-5A09EDF9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9D5B-C4FA-4389-8F51-CDF477F8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8489-DB3B-4EEA-9CB8-EAFD09F1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07BC-5844-4D2E-8666-E2A7F207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CFB4-23D8-4467-9199-D03BA4ED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E654-5359-4EEB-A36C-D848E13C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FFF-E678-440E-A884-9F041AC9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F65-E649-4DC6-9A17-41E38598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52F-9969-4D40-874D-787DEC9A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BFB-629F-48BB-8DDF-B1921F5B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31B-C332-4691-B571-A8466E20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1BB-D6F9-4AEC-9047-84B10CDE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E8D-0548-4738-A328-EA94F56A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746C-8105-4DDD-B922-5128C82F0705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28E0-29B5-45DF-9D61-E3614EC4A728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46000" y="5724360"/>
            <a:ext cx="3062160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36452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da Saúde – Ciências Biológicas - Indianópolis (trata-se de um exemplo: 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8874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165240" y="-174600"/>
            <a:ext cx="19545120" cy="19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Imagem 1" descr=""/>
          <p:cNvPicPr/>
          <p:nvPr/>
        </p:nvPicPr>
        <p:blipFill>
          <a:blip r:embed="rId1"/>
          <a:srcRect l="11655" t="4981" r="12175" b="31887"/>
          <a:stretch/>
        </p:blipFill>
        <p:spPr>
          <a:xfrm>
            <a:off x="6291360" y="13274640"/>
            <a:ext cx="19297440" cy="17951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Users\POS\Pictures\Logos\LogoTarja_ViceReitoria.png"/>
          <p:cNvPicPr/>
          <p:nvPr/>
        </p:nvPicPr>
        <p:blipFill>
          <a:blip r:embed="rId2"/>
          <a:stretch/>
        </p:blipFill>
        <p:spPr>
          <a:xfrm>
            <a:off x="1401840" y="151272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1:46Z</dcterms:modified>
  <cp:revision>190</cp:revision>
  <dc:subject/>
  <dc:title>Slide sem título</dc:title>
</cp:coreProperties>
</file>