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02B7-2E82-4F63-ACD4-3A8E2981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D778-C718-4775-822F-C4321705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8F0E-0E9E-4CE3-879B-9902098A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3F3-39D8-4084-929A-40F2CB44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2C17-ED4E-43AE-8BB9-2FBE5928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9B79-A0AA-4DEC-959A-41A3F70D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6B55-7301-48E0-9F76-A6D05ECF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CC64-ECBF-49D2-8E91-B04DE0B3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6B27-90BD-49D1-8B50-437FEBC8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3B9C-18BA-4EC6-AE4D-51C7E191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0EC8-C563-4A29-99CB-877BACFB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FAC5-7F45-46B1-B41C-0254DC21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B2EC-202D-4538-AA8C-6DA7217D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77E0-B0A8-4A88-9BF7-D33292FF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506E-B02F-45E3-8D4E-8F4BC1DE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E876-9FAC-4CB4-9EB3-CF226018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2272-156C-4AF3-BDA8-598AD21A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3504-1D2F-42DB-B2AE-6FE52E0C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002A-336E-4628-B21A-1A1422F0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F8A-262A-4E7B-A140-EA884231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849D-2CA4-4419-9E5F-94E393E0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08E-D3EE-4B04-AEF8-B54719A5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DE1-B5EB-4CA8-BAF1-F68F445E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B5D-BB63-4652-A830-4AED46A7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989C-E73D-49DB-8356-8436DC125255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8D86-D5F2-4708-85B8-C00987A4A7C9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1133640" y="4951440"/>
            <a:ext cx="3062268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7116840"/>
            <a:ext cx="3218652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Exatas e Tecnologia - Engenharia - Indianópolis (trata-se de um exemplo: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6066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Apoio UNIP - Vice-Reitoria de Pós-Graduação e Pesquis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655640" y="1081080"/>
            <a:ext cx="76010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4:02Z</dcterms:modified>
  <cp:revision>186</cp:revision>
  <dc:subject/>
  <dc:title>Slide sem título</dc:title>
</cp:coreProperties>
</file>