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FD5-8785-4F94-A68F-2FF47469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968-2F02-4C95-AF65-1F857322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251-DEBD-41F7-9578-6A784D65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BDF-45CA-405A-9969-FEDD2333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7D43-FF8E-4402-A556-4F06EC5D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0179-E3A6-48BD-88E2-67805DC1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F65D-A3F4-4306-B54E-C1780CDD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7077-9175-4EE4-A81B-B635FB66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49FF-0CD3-4C52-A6C4-89F2475E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DAAA-FF69-4950-9791-09BA1BBD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CE90-FF66-4D09-8A7E-3D4D26D4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2CF6-B77F-4FF1-A5F7-42562BAA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6291-B65E-4839-B647-03025924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AFC4-2963-471C-9A2A-959C8253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023E-830E-4A67-951E-79E53CA2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0700-B8DB-4DDD-A280-E70557F3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97E7-A128-475E-99DC-66753D40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822-8085-4816-A67E-10F1797C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BCF-2B4E-4E01-B598-F2A6F974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D0C-4470-4050-A3A6-D8DCC99B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F57-4927-4464-A366-AA5F1304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44C-7DBD-45D2-B68D-EC64E888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5E1-5EFC-4222-827F-60B84DCE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1F4-AFA6-47FD-BD95-06EB961C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9C23-CE66-4F7E-8456-E08D59451370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8689-156D-4550-AEE1-9D92DF28453D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917640" y="5073480"/>
            <a:ext cx="3062268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16000" y="742644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Humanas - Pedagogia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9290160" y="1606680"/>
            <a:ext cx="2275344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689120" y="1152360"/>
            <a:ext cx="76010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12Z</dcterms:modified>
  <cp:revision>185</cp:revision>
  <dc:subject/>
  <dc:title>Slide sem título</dc:title>
</cp:coreProperties>
</file>