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C72-A8DC-44E2-B52B-607B982F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BD5-882F-4D0D-AA11-6DEC0C0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2F1-F93D-4E80-8BB1-5106587D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F98-F6D9-4CF5-940F-70E08A4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E9CF-BCFE-41F1-99C6-643EA77B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945D-1A11-49FE-A940-BDF8928A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D025-CE53-4B2B-B209-FA03E7C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8649-2758-4B5E-B22A-62782AC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B7B6-CA7E-4C85-9066-A4D71C4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EC64-27CE-443F-886C-6ABCCF06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8CA8-8D67-46ED-94B1-41FA3F0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681-A4AE-4FA2-B79E-3E6510A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E47D-8DA1-4C6C-A558-D31198D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1CEC-0548-4CAB-9BA6-A884CF9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BF46-42F1-4083-98F8-2C65B336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71D-A119-4CBD-838C-06FA4DCA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2675-3BD8-41F4-BE82-C1053872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DFB-F2AF-48DC-9C68-6562189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E89-80B9-4FFE-80E3-EF75CF7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D7E-8842-48E8-8A5F-91A70FF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8F5-768D-4139-8A35-B20961C3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DA6-F54E-443D-8C22-5F078C6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58B-AAF6-4972-A6F4-A2B0823E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5F2-655E-4497-895E-4519A13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F4A-E6D8-4EA9-A5FE-F083DBDC5CD7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27B-E607-495F-AA0C-0565C1F56BC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7Z</dcterms:modified>
  <cp:revision>181</cp:revision>
  <dc:subject/>
  <dc:title>Slide sem título</dc:title>
</cp:coreProperties>
</file>