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F7A-E769-441B-A6C4-DCA2CB4A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CFE-AA8D-48CE-A5B1-58828B22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720-314B-4DA9-9060-84892CED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B6C-94F2-4EEF-B383-5A81264F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C614-5FA8-4C18-996F-8F42FCB4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C7A5-349A-4650-8628-4E2B38B4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C996-B1BB-45BD-BFC7-432E56C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F037-2FE0-48E6-B311-230D5664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06C4-B369-474E-800F-9FC0A623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5B96-55FC-4E63-A3E8-1E4C930D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14C9-6942-4100-A697-02B7B3AB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70B-2033-4452-B8B3-E4311D3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BBA6-2EDE-4DDC-8212-63264E0B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2AA6-1E20-4DBB-9D18-1C7B874E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931F-4A7F-416E-B3FD-EC449451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11C8-1985-4529-BE70-E5D78836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ACD9-B7F4-4195-ACB5-B7C5BF01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4D5-EA44-47DF-8148-1FC597C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CCA-0BDC-4450-8449-B395B0EB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761-7395-4C69-B7C1-946052F8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B01-F5B9-4CF1-B838-E2A269F9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D19-24F7-4BE4-B03B-691FCCBC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985-6D99-4588-904F-2FC99F9B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6DF-85D5-40CE-8EAA-77F0092E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4C9A-5C9C-4454-BDD2-A162A1E2B8E9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2E40-FA88-4817-BCEE-088D248F8FBB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674640" y="5149800"/>
            <a:ext cx="306230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680724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: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333333"/>
                </a:solidFill>
                <a:latin typeface="Arial"/>
              </a:rPr>
              <a:t>Ciências Sociais e Comunicação - Administração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Freeform 27"/>
          <p:cNvSpPr/>
          <p:nvPr/>
        </p:nvSpPr>
        <p:spPr>
          <a:xfrm>
            <a:off x="6019920" y="2019240"/>
            <a:ext cx="230040" cy="130320"/>
          </a:xfrm>
          <a:custGeom>
            <a:avLst/>
            <a:gdLst/>
            <a:ahLst/>
            <a:rect l="l" t="t" r="r" b="b"/>
            <a:pathLst>
              <a:path w="522" h="314">
                <a:moveTo>
                  <a:pt x="0" y="314"/>
                </a:moveTo>
                <a:lnTo>
                  <a:pt x="184" y="314"/>
                </a:lnTo>
                <a:lnTo>
                  <a:pt x="206" y="313"/>
                </a:lnTo>
                <a:lnTo>
                  <a:pt x="226" y="311"/>
                </a:lnTo>
                <a:lnTo>
                  <a:pt x="246" y="307"/>
                </a:lnTo>
                <a:lnTo>
                  <a:pt x="265" y="301"/>
                </a:lnTo>
                <a:lnTo>
                  <a:pt x="285" y="295"/>
                </a:lnTo>
                <a:lnTo>
                  <a:pt x="303" y="286"/>
                </a:lnTo>
                <a:lnTo>
                  <a:pt x="321" y="277"/>
                </a:lnTo>
                <a:lnTo>
                  <a:pt x="337" y="267"/>
                </a:lnTo>
                <a:lnTo>
                  <a:pt x="353" y="255"/>
                </a:lnTo>
                <a:lnTo>
                  <a:pt x="369" y="243"/>
                </a:lnTo>
                <a:lnTo>
                  <a:pt x="383" y="230"/>
                </a:lnTo>
                <a:lnTo>
                  <a:pt x="396" y="216"/>
                </a:lnTo>
                <a:lnTo>
                  <a:pt x="410" y="201"/>
                </a:lnTo>
                <a:lnTo>
                  <a:pt x="421" y="186"/>
                </a:lnTo>
                <a:lnTo>
                  <a:pt x="431" y="170"/>
                </a:lnTo>
                <a:lnTo>
                  <a:pt x="441" y="153"/>
                </a:lnTo>
                <a:lnTo>
                  <a:pt x="522" y="0"/>
                </a:lnTo>
                <a:lnTo>
                  <a:pt x="158" y="0"/>
                </a:lnTo>
                <a:lnTo>
                  <a:pt x="0" y="31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17840" y="136836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5:01Z</dcterms:modified>
  <cp:revision>186</cp:revision>
  <dc:subject/>
  <dc:title>Slide sem título</dc:title>
</cp:coreProperties>
</file>