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32404050" cy="396033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273A8-6B79-411E-B24C-7F42AA34B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2754324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430000" y="23852880"/>
            <a:ext cx="2754324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CB3D3-FC0A-4B3E-B4C5-7E15B8BEB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543440" y="1144080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430000" y="2385288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543440" y="2385288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943AF-FB30-424C-9FC1-CDCA05023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886860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742480" y="11440800"/>
            <a:ext cx="886860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054960" y="11440800"/>
            <a:ext cx="886860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430000" y="23852880"/>
            <a:ext cx="886860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742480" y="23852880"/>
            <a:ext cx="886860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054960" y="23852880"/>
            <a:ext cx="886860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B13CF-2F6D-40F5-A3E5-3E03B6388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D9AC5-7955-4443-8A4A-750B20B0C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2430000" y="11440800"/>
            <a:ext cx="27543240" cy="237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574"/>
              </a:spcBef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0D2F9-09ED-45CB-99B6-5C82FC76A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27543240" cy="2376324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CCF2A-81C9-4511-8969-6ACF0CA21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13440960" cy="2376324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6543440" y="11440800"/>
            <a:ext cx="13440960" cy="2376324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0A50E-1598-4D52-8937-3F4163EE2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1069F-2E83-4571-8579-311101ABE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430000" y="2639880"/>
            <a:ext cx="27543240" cy="3059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574"/>
              </a:spcBef>
              <a:tabLst>
                <a:tab algn="l" pos="0"/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1DD84-4EEC-46FD-A82A-96A812BAD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6543440" y="11440800"/>
            <a:ext cx="13440960" cy="2376324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2430000" y="2385288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6780D-CFB4-4091-B1C4-61213C750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430000" y="11440800"/>
            <a:ext cx="27543240" cy="237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574"/>
              </a:spcBef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58F36-2801-47F6-A05B-327227A31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13440960" cy="2376324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16543440" y="1144080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6543440" y="2385288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D844D-0E3F-470F-880F-78DC06B91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6543440" y="1144080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2430000" y="23852880"/>
            <a:ext cx="2754324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BE44C-0AB1-407F-B477-0226D009B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2754324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2430000" y="23852880"/>
            <a:ext cx="2754324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A37F7-2691-4892-AD98-47F32E3BC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6543440" y="1144080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430000" y="2385288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16543440" y="2385288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B31E3-15EC-4A34-A1E1-0358ADE60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886860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742480" y="11440800"/>
            <a:ext cx="886860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21054960" y="11440800"/>
            <a:ext cx="886860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2430000" y="23852880"/>
            <a:ext cx="886860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11742480" y="23852880"/>
            <a:ext cx="886860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21054960" y="23852880"/>
            <a:ext cx="886860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FD840-454A-4AA6-ACB9-B1658B9D2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27543240" cy="2376324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8F947-7F5E-4564-B776-D61014844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13440960" cy="2376324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543440" y="11440800"/>
            <a:ext cx="13440960" cy="2376324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666AC-7D2C-48D6-95EB-BE1FAF427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056A5-608C-40CC-8A78-59D814462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430000" y="2639880"/>
            <a:ext cx="27543240" cy="3059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574"/>
              </a:spcBef>
              <a:tabLst>
                <a:tab algn="l" pos="0"/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62CFD-7FCC-4599-AAAA-F053B4A9D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543440" y="11440800"/>
            <a:ext cx="13440960" cy="2376324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430000" y="2385288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A54FE-FB48-4B29-B1C7-7BDD9BDA8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13440960" cy="2376324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543440" y="1144080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543440" y="2385288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E7B80-BA72-4C2C-B19F-CA95A8EB6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543440" y="1144080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430000" y="23852880"/>
            <a:ext cx="2754324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C75C2-CA22-4299-99D8-5B2D0933F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e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r>
              <a:rPr b="0" lang="en-US" sz="198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430000" y="11440800"/>
            <a:ext cx="27543240" cy="2376324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marL="1541520" indent="-1541520">
              <a:spcBef>
                <a:spcPts val="3574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4111560"/>
                <a:tab algn="l" pos="8223120"/>
              </a:tabLst>
            </a:pPr>
            <a:r>
              <a:rPr b="0" lang="en-US" sz="143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  <a:p>
            <a:pPr lvl="1" marL="3343320" indent="-1285920">
              <a:spcBef>
                <a:spcPts val="3574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4111560"/>
                <a:tab algn="l" pos="8223120"/>
              </a:tabLst>
            </a:pPr>
            <a:r>
              <a:rPr b="0" lang="en-US" sz="143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  <a:p>
            <a:pPr lvl="2" marL="5143680" indent="-1030320">
              <a:spcBef>
                <a:spcPts val="3574"/>
              </a:spcBef>
              <a:buClr>
                <a:srgbClr val="333333"/>
              </a:buClr>
              <a:buFont typeface="Times New Roman"/>
              <a:buChar char="•"/>
              <a:tabLst>
                <a:tab algn="l" pos="4111560"/>
                <a:tab algn="l" pos="8223120"/>
              </a:tabLst>
            </a:pPr>
            <a:r>
              <a:rPr b="0" lang="en-US" sz="143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  <a:p>
            <a:pPr lvl="3" marL="7201080" indent="-1028880">
              <a:spcBef>
                <a:spcPts val="3574"/>
              </a:spcBef>
              <a:buClr>
                <a:srgbClr val="333333"/>
              </a:buClr>
              <a:buFont typeface="Times New Roman"/>
              <a:buChar char="–"/>
              <a:tabLst>
                <a:tab algn="l" pos="4111560"/>
                <a:tab algn="l" pos="8223120"/>
              </a:tabLst>
            </a:pPr>
            <a:r>
              <a:rPr b="0" lang="en-US" sz="143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  <a:p>
            <a:pPr lvl="4" marL="9255240" indent="-1027080">
              <a:spcBef>
                <a:spcPts val="3574"/>
              </a:spcBef>
              <a:buClr>
                <a:srgbClr val="333333"/>
              </a:buClr>
              <a:buFont typeface="Times New Roman"/>
              <a:buChar char="»"/>
              <a:tabLst>
                <a:tab algn="l" pos="4111560"/>
                <a:tab algn="l" pos="8223120"/>
              </a:tabLst>
            </a:pPr>
            <a:r>
              <a:rPr b="0" lang="en-US" sz="143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  <a:p>
            <a:pPr lvl="5" marL="9255240" indent="-1027080">
              <a:spcBef>
                <a:spcPts val="3574"/>
              </a:spcBef>
              <a:buClr>
                <a:srgbClr val="333333"/>
              </a:buClr>
              <a:buFont typeface="Times New Roman"/>
              <a:buChar char="»"/>
              <a:tabLst>
                <a:tab algn="l" pos="4111560"/>
                <a:tab algn="l" pos="8223120"/>
              </a:tabLst>
            </a:pPr>
            <a:r>
              <a:rPr b="0" lang="en-US" sz="143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  <a:p>
            <a:pPr lvl="6" marL="9255240" indent="-1027080">
              <a:spcBef>
                <a:spcPts val="3574"/>
              </a:spcBef>
              <a:buClr>
                <a:srgbClr val="333333"/>
              </a:buClr>
              <a:buFont typeface="Times New Roman"/>
              <a:buChar char="»"/>
              <a:tabLst>
                <a:tab algn="l" pos="4111560"/>
                <a:tab algn="l" pos="8223120"/>
              </a:tabLst>
            </a:pPr>
            <a:r>
              <a:rPr b="0" lang="en-US" sz="143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430360" y="36083880"/>
            <a:ext cx="6750000" cy="264168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1070720" y="36083880"/>
            <a:ext cx="10261800" cy="264168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3223600" y="36083880"/>
            <a:ext cx="6750000" cy="264168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Autofit/>
          </a:bodyPr>
          <a:lstStyle>
            <a:lvl1pPr indent="0" algn="r">
              <a:spcBef>
                <a:spcPts val="39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63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39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A725C-B46E-467C-8A49-9384B2ACB804}" type="slidenum">
              <a:rPr b="0" lang="en-US" sz="63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6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e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2"/>
          <p:cNvSpPr/>
          <p:nvPr/>
        </p:nvSpPr>
        <p:spPr>
          <a:xfrm>
            <a:off x="2448000" y="19291320"/>
            <a:ext cx="27120600" cy="2805120"/>
          </a:xfrm>
          <a:custGeom>
            <a:avLst/>
            <a:gdLst>
              <a:gd name="textAreaLeft" fmla="*/ 0 w 27120600"/>
              <a:gd name="textAreaRight" fmla="*/ 27120960 w 27120600"/>
              <a:gd name="textAreaTop" fmla="*/ 0 h 2805120"/>
              <a:gd name="textAreaBottom" fmla="*/ 2805480 h 2805120"/>
            </a:gdLst>
            <a:ahLst/>
            <a:rect l="textAreaLeft" t="textAreaTop" r="textAreaRight" b="textAreaBottom"/>
            <a:pathLst>
              <a:path w="4128" h="479">
                <a:moveTo>
                  <a:pt x="163" y="200"/>
                </a:moveTo>
                <a:cubicBezTo>
                  <a:pt x="163" y="200"/>
                  <a:pt x="2054" y="0"/>
                  <a:pt x="4128" y="200"/>
                </a:cubicBezTo>
                <a:cubicBezTo>
                  <a:pt x="4128" y="200"/>
                  <a:pt x="4128" y="314"/>
                  <a:pt x="4128" y="429"/>
                </a:cubicBezTo>
                <a:cubicBezTo>
                  <a:pt x="2371" y="200"/>
                  <a:pt x="688" y="479"/>
                  <a:pt x="0" y="441"/>
                </a:cubicBezTo>
                <a:lnTo>
                  <a:pt x="163" y="200"/>
                </a:lnTo>
                <a:close/>
              </a:path>
            </a:pathLst>
          </a:custGeom>
          <a:solidFill>
            <a:srgbClr val="bdd7e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760" rIns="86760" tIns="43200" bIns="43200" anchor="ctr">
            <a:noAutofit/>
          </a:bodyPr>
          <a:p>
            <a:endParaRPr b="0" lang="en-US" sz="2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r>
              <a:rPr b="0" lang="en-US" sz="198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2430000" y="11440800"/>
            <a:ext cx="27543240" cy="2376324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marL="1541520" indent="-1541520">
              <a:spcBef>
                <a:spcPts val="3574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4111560"/>
                <a:tab algn="l" pos="8223120"/>
              </a:tabLst>
            </a:pPr>
            <a:r>
              <a:rPr b="0" lang="en-US" sz="143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  <a:p>
            <a:pPr lvl="1" marL="3343320" indent="-1285920">
              <a:spcBef>
                <a:spcPts val="3574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4111560"/>
                <a:tab algn="l" pos="8223120"/>
              </a:tabLst>
            </a:pPr>
            <a:r>
              <a:rPr b="0" lang="en-US" sz="143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  <a:p>
            <a:pPr lvl="2" marL="5143680" indent="-1030320">
              <a:spcBef>
                <a:spcPts val="3574"/>
              </a:spcBef>
              <a:buClr>
                <a:srgbClr val="333333"/>
              </a:buClr>
              <a:buFont typeface="Times New Roman"/>
              <a:buChar char="•"/>
              <a:tabLst>
                <a:tab algn="l" pos="4111560"/>
                <a:tab algn="l" pos="8223120"/>
              </a:tabLst>
            </a:pPr>
            <a:r>
              <a:rPr b="0" lang="en-US" sz="143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  <a:p>
            <a:pPr lvl="3" marL="7201080" indent="-1028880">
              <a:spcBef>
                <a:spcPts val="3574"/>
              </a:spcBef>
              <a:buClr>
                <a:srgbClr val="333333"/>
              </a:buClr>
              <a:buFont typeface="Times New Roman"/>
              <a:buChar char="–"/>
              <a:tabLst>
                <a:tab algn="l" pos="4111560"/>
                <a:tab algn="l" pos="8223120"/>
              </a:tabLst>
            </a:pPr>
            <a:r>
              <a:rPr b="0" lang="en-US" sz="143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  <a:p>
            <a:pPr lvl="4" marL="9255240" indent="-1027080">
              <a:spcBef>
                <a:spcPts val="3574"/>
              </a:spcBef>
              <a:buClr>
                <a:srgbClr val="333333"/>
              </a:buClr>
              <a:buFont typeface="Times New Roman"/>
              <a:buChar char="»"/>
              <a:tabLst>
                <a:tab algn="l" pos="4111560"/>
                <a:tab algn="l" pos="8223120"/>
              </a:tabLst>
            </a:pPr>
            <a:r>
              <a:rPr b="0" lang="en-US" sz="143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  <a:p>
            <a:pPr lvl="5" marL="9255240" indent="-1027080">
              <a:spcBef>
                <a:spcPts val="3574"/>
              </a:spcBef>
              <a:buClr>
                <a:srgbClr val="333333"/>
              </a:buClr>
              <a:buFont typeface="Times New Roman"/>
              <a:buChar char="»"/>
              <a:tabLst>
                <a:tab algn="l" pos="4111560"/>
                <a:tab algn="l" pos="8223120"/>
              </a:tabLst>
            </a:pPr>
            <a:r>
              <a:rPr b="0" lang="en-US" sz="143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  <a:p>
            <a:pPr lvl="6" marL="9255240" indent="-1027080">
              <a:spcBef>
                <a:spcPts val="3574"/>
              </a:spcBef>
              <a:buClr>
                <a:srgbClr val="333333"/>
              </a:buClr>
              <a:buFont typeface="Times New Roman"/>
              <a:buChar char="»"/>
              <a:tabLst>
                <a:tab algn="l" pos="4111560"/>
                <a:tab algn="l" pos="8223120"/>
              </a:tabLst>
            </a:pPr>
            <a:r>
              <a:rPr b="0" lang="en-US" sz="143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2430360" y="36083880"/>
            <a:ext cx="6750000" cy="264168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11070720" y="36083880"/>
            <a:ext cx="10261800" cy="264168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23223600" y="36083880"/>
            <a:ext cx="6750000" cy="264168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Autofit/>
          </a:bodyPr>
          <a:lstStyle>
            <a:lvl1pPr indent="0" algn="r">
              <a:spcBef>
                <a:spcPts val="39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63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39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6FA3A-7440-47CF-8952-1F78517D2763}" type="slidenum">
              <a:rPr b="0" lang="en-US" sz="63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6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320"/>
          <p:cNvSpPr/>
          <p:nvPr/>
        </p:nvSpPr>
        <p:spPr>
          <a:xfrm>
            <a:off x="846000" y="5292720"/>
            <a:ext cx="30621600" cy="1104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44000" rIns="144000" tIns="72000" bIns="72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pt-BR" sz="6300" spc="-1" strike="noStrike">
                <a:solidFill>
                  <a:srgbClr val="000000"/>
                </a:solidFill>
                <a:latin typeface="Arial"/>
              </a:rPr>
              <a:t>Título da pesquisa  XXXXXXXXXXXXXXXXX</a:t>
            </a:r>
            <a:endParaRPr b="0" lang="en-US" sz="6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4" name="Text Box 322"/>
          <p:cNvSpPr/>
          <p:nvPr/>
        </p:nvSpPr>
        <p:spPr>
          <a:xfrm>
            <a:off x="73080" y="7364520"/>
            <a:ext cx="32187960" cy="325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72000" bIns="72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0" lang="pt-BR" sz="5100" spc="-1" strike="noStrike">
                <a:solidFill>
                  <a:srgbClr val="000000"/>
                </a:solidFill>
                <a:latin typeface="Arial"/>
              </a:rPr>
              <a:t>Aluno ou Aluna: </a:t>
            </a:r>
            <a:r>
              <a:rPr b="1" lang="pt-BR" sz="5100" spc="-1" strike="noStrike">
                <a:solidFill>
                  <a:srgbClr val="000000"/>
                </a:solidFill>
                <a:latin typeface="Arial"/>
              </a:rPr>
              <a:t>XXXXXXXX</a:t>
            </a:r>
            <a:endParaRPr b="0" lang="en-US" sz="51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0" lang="pt-BR" sz="5100" spc="-1" strike="noStrike">
                <a:solidFill>
                  <a:srgbClr val="000000"/>
                </a:solidFill>
                <a:latin typeface="Arial"/>
              </a:rPr>
              <a:t>Orientador ou Orientadora: Prof. ou Profa. XXXXX Se for Doutor, Prof. Dr. ou Profa. Dra.</a:t>
            </a:r>
            <a:endParaRPr b="0" lang="en-US" sz="51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0" lang="pt-BR" sz="5100" spc="-1" strike="noStrike">
                <a:solidFill>
                  <a:srgbClr val="000000"/>
                </a:solidFill>
                <a:latin typeface="Arial"/>
              </a:rPr>
              <a:t>Ciências Sociais e Comunicação - Direito - Indianópolis (trata-se de um exemplo:cada aluno deve preencher com seus dados de curso e </a:t>
            </a:r>
            <a:r>
              <a:rPr b="0" i="1" lang="pt-BR" sz="5100" spc="-1" strike="noStrike">
                <a:solidFill>
                  <a:srgbClr val="000000"/>
                </a:solidFill>
                <a:latin typeface="Arial"/>
              </a:rPr>
              <a:t>campus</a:t>
            </a:r>
            <a:r>
              <a:rPr b="0" lang="pt-BR" sz="51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51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5" name="Text Box 361"/>
          <p:cNvSpPr/>
          <p:nvPr/>
        </p:nvSpPr>
        <p:spPr>
          <a:xfrm>
            <a:off x="7315200" y="1606680"/>
            <a:ext cx="25088760" cy="2338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44000" rIns="144000" tIns="72000" bIns="72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pt-BR" sz="7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7200" spc="-1" strike="noStrike">
                <a:solidFill>
                  <a:srgbClr val="000000"/>
                </a:solidFill>
                <a:latin typeface="Arial"/>
              </a:rPr>
              <a:t>Apoio UNIP - Vice-Reitoria de Pós-Graduação e </a:t>
            </a:r>
            <a:endParaRPr b="0" lang="en-US" sz="72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pt-BR" sz="7200" spc="-1" strike="noStrike">
                <a:solidFill>
                  <a:srgbClr val="000000"/>
                </a:solidFill>
                <a:latin typeface="Arial"/>
              </a:rPr>
              <a:t>Pesquisa</a:t>
            </a:r>
            <a:endParaRPr b="0" lang="en-US" sz="7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6" name="Rectangle 12"/>
          <p:cNvSpPr/>
          <p:nvPr/>
        </p:nvSpPr>
        <p:spPr>
          <a:xfrm>
            <a:off x="1224000" y="36252000"/>
            <a:ext cx="11196720" cy="150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120" rIns="87120" tIns="43560" bIns="43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pt-BR" sz="51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51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pt-BR" sz="4200" spc="-1" strike="noStrike">
                <a:solidFill>
                  <a:srgbClr val="000000"/>
                </a:solidFill>
                <a:latin typeface="Arial"/>
              </a:rPr>
              <a:t>Palavras-chave</a:t>
            </a:r>
            <a:r>
              <a:rPr b="0" lang="pt-BR" sz="4200" spc="-1" strike="noStrike">
                <a:solidFill>
                  <a:srgbClr val="000000"/>
                </a:solidFill>
                <a:latin typeface="Arial"/>
              </a:rPr>
              <a:t>: (de 3 a 5)</a:t>
            </a:r>
            <a:endParaRPr b="0" lang="en-US" sz="42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87" name="Picture 9" descr="C:\Users\POS\Pictures\Logos\LogoTarja_ViceReitoria.png"/>
          <p:cNvPicPr/>
          <p:nvPr/>
        </p:nvPicPr>
        <p:blipFill>
          <a:blip r:embed="rId1"/>
          <a:stretch/>
        </p:blipFill>
        <p:spPr>
          <a:xfrm>
            <a:off x="1401840" y="1152360"/>
            <a:ext cx="7599240" cy="32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12T15:26:35Z</dcterms:created>
  <dc:creator>UNIP</dc:creator>
  <dc:description/>
  <dc:language>en-US</dc:language>
  <cp:lastModifiedBy>POS</cp:lastModifiedBy>
  <dcterms:modified xsi:type="dcterms:W3CDTF">2023-03-16T18:04:40Z</dcterms:modified>
  <cp:revision>184</cp:revision>
  <dc:subject/>
  <dc:title>Slide sem título</dc:title>
</cp:coreProperties>
</file>