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DAA-C59E-4059-87A5-9DF0DEB6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609-35CA-4585-8FE9-E3B00098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E5F-F95D-4D02-96E7-C90AF9AB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31C-8271-4307-9AB8-9FBCC9D6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D58D-AB95-4C30-8112-20E87FBA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54B6-B33B-40E7-B9BA-F9553E3F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7E3F-A6B4-49F5-B94F-6D4AFC0C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31ED-A402-4FC5-A1D2-6C9EEFDC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565D-C434-44BA-B896-E200882E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921F-3DDE-465A-95D2-AAEFBE6C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CC5C-AFCF-45CB-B7BD-16F8887E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A5C-A784-4C01-93D5-48C402E9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0E14-8661-462B-86D5-99FC0B13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4DE6-6692-4CA0-8B4C-663EF142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9713-14F6-40FA-B477-3A6C3216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10BF-7CC9-4301-93D5-38566050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AED2-4806-4AA3-9439-54E709A0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813-C6E9-4D1B-A435-475339E6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FC8-1B0D-4860-8793-FCC39ADD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C0A-DA22-4256-879B-966ED5B6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E51-C6AB-406E-809C-80284684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C4C-B515-4D60-B6B4-C1A91072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482-C8BB-4ED6-9740-1619145C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F99-22FF-4372-BD7D-03534FBF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0F70-FCE7-4ED8-8195-AEFE92DAFBFE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0070-A3FD-4B43-B14C-17E92275830B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1062000" y="4889520"/>
            <a:ext cx="3062124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66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178760"/>
            <a:ext cx="32187960" cy="33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66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Orientador: 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u Orientadora:</a:t>
            </a: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400" spc="-1" strike="noStrike">
                <a:solidFill>
                  <a:srgbClr val="000066"/>
                </a:solidFill>
                <a:latin typeface="Arial"/>
              </a:rPr>
              <a:t>Superior Tecnológico - Ambiente e Saúde – Estética e Cosmética - Indianópolis (trata-se de um exemplo: cada aluno deve preencher com seus dados de curso e </a:t>
            </a:r>
            <a:r>
              <a:rPr b="0" i="1" lang="pt-BR" sz="5400" spc="-1" strike="noStrike">
                <a:solidFill>
                  <a:srgbClr val="000066"/>
                </a:solidFill>
                <a:latin typeface="Arial"/>
              </a:rPr>
              <a:t>campus</a:t>
            </a:r>
            <a:r>
              <a:rPr b="0" lang="pt-BR" sz="5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Pesquisa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66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66"/>
                </a:solidFill>
                <a:latin typeface="Arial"/>
              </a:rPr>
              <a:t>: (de 03-três até 05-cinco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01840" y="115236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24Z</dcterms:modified>
  <cp:revision>182</cp:revision>
  <dc:subject/>
  <dc:title>Slide sem título</dc:title>
</cp:coreProperties>
</file>